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22A-EB1A-4EC8-A120-B8D70214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087-F283-4A9E-9D91-6421DFC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993-327C-4FD8-BC1E-AD00C13C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522-BBFA-4954-BCDD-5C4F145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B9E0-D050-4EF0-AB54-9EBD1913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A1A2-9E40-44DF-ABDB-3E23A8A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8F9A-BF8C-4171-8A6D-05F4694C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ED54-7542-4DE9-B8CA-EDD89BF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785-B8AB-45AF-9899-772E424E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246C-FF2A-4F52-BACD-B8EAAE8A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4B41-264D-4C51-9D0E-F9ECB9F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FD2-60B9-4947-96A6-5A8B29C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0696-639A-409E-AFB9-31773C4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8FC9-6DF7-4B97-8A07-C42B965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51DA-5575-49F1-9C3D-9202193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3DE-3F17-4E58-A8AB-076AF9EF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205-AE59-440F-8DBA-1B99AF56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B5A-B2A5-469D-BE61-F5CAB9A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B29-FF9D-4CCE-84B0-14DE1D7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463-4646-4035-B8F5-BE2ACE8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BA9-E35B-4316-A884-B8AFAF12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4C9-B85F-4706-8686-7F6779A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CC7-140D-43EC-8128-069058B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6CD-E9A1-43FE-A963-9A1754B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276-3AD3-4BB1-8B07-04265FB4C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AE95-E457-4CEF-95BF-FE7495930F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andera2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rujillojoven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trujillo3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sillaelectrica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mirabal2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escudo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Luis Perez -  Compadre Pedro Juan.mp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dcterms:modified xsi:type="dcterms:W3CDTF">2014-02-24T18:37:47Z</dcterms:modified>
  <cp:revision>34</cp:revision>
  <dc:subject/>
  <dc:title>Republica Dominicana 1930 - 1961</dc:title>
</cp:coreProperties>
</file>